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 u="sng">
                <a:solidFill>
                  <a:srgbClr val="009999"/>
                </a:solidFill>
                <a:uFillTx/>
                <a:latin typeface="Lucida Handwriting"/>
                <a:ea typeface="Lucida Handwriting"/>
                <a:hlinkClick r:id="rId2" action="ppaction://hlinksldjump"/>
              </a:rPr>
              <a:t>Chapter 16 Change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418680"/>
            <a:ext cx="11175840" cy="81154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Due Process Hearing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PDE must provide annual report to state board including number and results of due process hearing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chool district must provide PDE with assurance of implementation of hearing decision within 30 school days of date of receipt of final decision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trategic Plan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must address process used for identification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must outline programs offered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must provide PDE with reports of students,personnel and program element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-393480"/>
            <a:ext cx="11175840" cy="1168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584280"/>
            <a:ext cx="11175840" cy="86486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General Supervision (PDE)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must conduct on-site monitoring to ensure compliance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must establish complaint procedure for parents and school district response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must outline process and monitoring schedule in a BEC, available on website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by October 1 of each school year, must report to state board both number and outcome of filed complaints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-304560"/>
            <a:ext cx="11175840" cy="1168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749160"/>
            <a:ext cx="11175840" cy="77853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pecial education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ngle IEP must be implemented for students with Chapter 14 disability and gifted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Deficits in memory or processing speed cannot be only basis for declaring student ineligible for gifted service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New language was added for federal definition of disabilitie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40840"/>
            <a:ext cx="11175840" cy="8674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Gifted Multidisciplinary Evaluation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evaluation request form must be readily available for parents and within 10 days of an oral request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GMDT must include in written report, all recommendations for student’s educational programming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initial student eval must be completed within 60 calendar days of receiving written parental consent/order of court or hearing officer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2" marL="207324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summer” does not count for 60 calendar days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11175840" cy="78865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Re-evaluation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ame 60 calendar day requiremen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ummer” not counted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571320"/>
            <a:ext cx="11175840" cy="79628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n Genera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All initial and revisions of GIEP must requires PLEP’s to be included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Teacher of gifted must be on GIEP team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GIEP must be based on GMDT’s written report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GIEP must include accommodations and modifications, along with anticipated frequency and location of gifted education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GIEP meeting are required to be convened at the request of GIEP team member, parent, student or school district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495000"/>
            <a:ext cx="11175840" cy="8039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aseload for gifted teacher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otal number of students per individual teacher reduced to 65 from 75 beginning July 1, 2010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ass roster amounts remains at 20 per individual teacher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11175840" cy="8001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Impartial due process hearing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student is to remain in current placement until outcome of hearing unless school district and parent  agree otherwise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school district can request a hearing to proceed when parent fails to respond to district request or when parent rejects district’s proposed placement of student that is different from initial placement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85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if parent refuses or does not respond to consent of initial services, their wishes cannot be superseded by hearing or mediation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